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EF13-83E6-4268-A2F0-49C740A4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D24-3A67-461A-8CB6-D9A19110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8BEA-3966-441D-8796-88085E40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A831-F6F3-457F-944B-80B3951B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CA75-09E6-4FC8-A9B3-E8EF6745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E48E-12B1-4058-B61B-7449C41E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03A0-BC35-4918-A375-E4F3FF4D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B964-2960-4F86-9BEC-160649B1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D8AD-B4AD-4063-9E8D-057CEA57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1AC9-9924-4E1E-8011-3086044D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E6E0-AECE-4E6C-938E-9BCD9369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CB95-8A00-4895-8B21-2CE58E99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6E64-FB04-4362-B121-30568557B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Pollution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Air Pollution Informational Broch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Pollution Broch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brochure explaining what air pollution is, how and why it happens, its dangers, and how we can help preven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chure will be used to educate the general public about air pol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it affect 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we help prevent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Pollution Broch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have three days in the lab t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es. November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. December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es. December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Wed. December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Pollution Broch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pollutio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 public about air pol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t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 and Preventio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 public about the affects of air pollution and how to preven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it affec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it affect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they preven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Pollution Broch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, picture, and “attention gett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 F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it occur? What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third and Middle th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air pollution affect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th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air pollution be preven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th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 information and 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23:46:49Z</dcterms:created>
  <dc:creator>Alicia Burge</dc:creator>
  <dc:description/>
  <dc:language>en-US</dc:language>
  <cp:lastModifiedBy>Alicia Burge</cp:lastModifiedBy>
  <dcterms:modified xsi:type="dcterms:W3CDTF">2010-11-30T00:02:53Z</dcterms:modified>
  <cp:revision>4</cp:revision>
  <dc:subject/>
  <dc:title>Natural Disasters Project</dc:title>
</cp:coreProperties>
</file>